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08DB-A4B9-41DC-9B69-F1C16F26E6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ECBC-2CC6-486A-9C52-4823FAF0AB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12AD-EA2B-40C9-8279-FE48C27A5A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DA6D-CD1B-4557-929B-36C2F6840D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8672-2B25-4ECF-8F94-E69C170A33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FBB5-EFC7-4783-984A-124BB4ED91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0104-DCD4-4278-B64D-6ADFA73A86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D6ED-9C7E-49FB-9FC7-1FCF9AB994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9318-3DE4-49F0-AA33-FFE3E1BDDE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A85A-5335-4AF9-99A9-BB7D04130A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86EB-37C7-4463-9773-6412E5D74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B4AE-A97F-4B49-B1C8-715E7C9846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FB8A-51F2-4490-B9AC-450BA3EC88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0D13-E8D6-4200-912C-D6A26EDEF5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F272-448B-4899-BD43-F563631F68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F8E3-42F7-41B9-93B9-D101CB1ECE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C348-D613-4E8E-8ECD-71D493547F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D46C-B6F0-489A-920A-6E037968FD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5DD0-826A-4831-B04A-0C12EB61C8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7475-8D8E-47CE-955D-B6AD65A1B4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D677-AABA-4D41-A4C6-8AE16B33D7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629F-EBA3-434C-9549-2974919D1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7639-6A9B-4532-8E44-83A33465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2179-AC24-4F47-B44C-642D497E8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3C4E-7E31-44A6-95F6-ABCF6B44D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CA73-7088-4840-AEFA-9B400BC2C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EA1B-AE77-4954-81CE-2190DC9C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6133-7D77-44F1-B717-4C782085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EC4F-1BCF-4754-A46F-E30FC6DA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EDB3-2D99-45D9-A7EA-0FF8501B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1A4C-4EDF-4E1E-8359-F5A746D1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48A2-FF3A-4D62-8EDB-0E08B90F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18DD-4F26-409D-A2E7-C4763A93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7FFA-FFDB-47E9-BFE2-3ED6A969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C936-FF94-490D-9F81-C605CF7F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7365-DE08-4CEF-9C3D-7C8B9217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11B4-E30A-46D0-99D8-21794388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4FB7-F6DD-4CD7-AD3F-81BB471A2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A40B1-5D2C-4528-AA55-9801129A9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67825-BC20-4910-AC42-C87C2F21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6199B-35EF-4CC6-9F97-0922E5E8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4FB41-FD71-4E01-BA88-68BD310F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725A8-6C4B-42C0-AB9B-109225B2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5A9C-577E-4678-8DA6-72CEE47F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0F603-E661-4FF3-B1C5-DD77AD26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BDE93-C98D-4835-82E8-9FBD9BCA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8322F-BB78-49E1-A6AD-DB3622FB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2D4E2-C030-4D13-BDD2-2B7B15B6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A26F7-A2C9-4649-9B21-3A813C48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24DF1-4138-46E4-8E42-BD6CE158C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5289D-C64C-4A74-A0F4-A512B31F1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A26A5-BA96-45C4-9913-247F96A5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E3ABC-6544-4693-8FB8-7EEC2A28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C75A9-EBB1-4F53-8BDD-AE499C4A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7BAB-A69B-458F-88C3-295237D9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45534-1B8F-4C73-B41A-E636E553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17655-0C5F-47F5-9888-A7E41FD8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F4DB0-B215-470B-B9FA-A0FA3D99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2DEC9-EFB4-42F7-AFC8-91DB72F0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317D5-741F-4FBB-BCDB-44D884A7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E80BC-4D93-497F-9920-3BFCE513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C3ACD-6FDF-43CE-9B6E-D7F3A200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70196-5360-4E87-866E-A0DDCBBE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1E040-68BD-40F3-B2C1-97B512F86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23835-EE24-43F0-9AD4-14B3F714E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CDBB-86EC-438A-92E5-C0B421F8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F28CA-CB08-4257-8B81-32595184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8F08B-31E9-4B8C-B06E-87E02263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51FD8-C561-4057-BF50-F5C3BA2A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8539D-20CD-467B-970D-C33A9C46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A028F-A1EE-42F2-B603-9FD4AEFD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B33EB-24A4-4BB0-BEC1-82B33F46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A4CF0-637F-4281-9327-E4080403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F35E5-9D6A-4EB7-8E86-56D6F12A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16571-575B-4887-BE72-507D0281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F8122-B309-40C6-B834-F6365E597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0CC3-8C60-4155-A86F-01631390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BF881-A864-4C6F-9FBF-C146674ED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36A0C-D9BC-4B8D-B8EE-9BAFE171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6E6AF-C53C-4EFF-B14B-CBD02D86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5C62B-1F2A-40F4-BEED-7090E296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53B29-8723-4784-80F1-702DB983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2EFD6-BB45-4711-A2BA-EE2C03BA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C9FCC-BAD7-4E62-A899-DF278302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A7DAB-C019-4D9B-BF91-5A30840D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2CBF9-9EBA-47C0-AD21-562AF7E9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534C9-0628-48E3-8501-F530DB67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C618-DA69-4F88-ACA1-947723DE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7EA4D-351A-48A5-8A3D-A3962B0D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C0E50-BF3A-476F-ADE5-5FE379693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D2FEF-A61A-41B6-8AF9-65C694FE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9CD48-37B6-4C7E-889C-3CB5A087A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8515D-45B3-4E6A-81F9-862C4324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CB6A8-581F-43D6-9B4E-88B93977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7C3FD-9C00-4A4A-99EF-55082095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13DF8-F935-4201-B5F6-6E49CA73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F1E8C-DF84-410B-84C4-C16AF03A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B9220-B3D5-4530-90A1-86E35699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2638-15A6-4F43-BEE9-874D44A3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48373-39AB-426A-8787-AC6EC566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5872E-7D60-4D8B-87E4-7C658EA0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26DF5-FB1F-4F6D-AC0D-157B07EB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0480D-4447-49E6-B2F9-36EA14CC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0A98A-19A5-45EF-B059-0EEF5196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A61D-8978-4C14-94FD-2A868307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3DAA-0C8C-4B38-859B-B64E06665554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79D3-49B7-4EBB-8798-39949956F5E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1030-A2EC-4099-B743-466B61538CDB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0448-29FB-417D-905A-F32430009277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6C0D-4CAE-478A-919C-03E6B059AF6D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8230-56B9-4277-AE23-A993D8CC4A0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0125-3295-467D-8B0D-C20B1D3146FB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BEC4-A10F-4A4E-8757-5BFD8F83B73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54E5-82D7-4D70-BEB3-DF0D4B688AF0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4B54-6AAC-4A84-B49E-3BC7EC84E0F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CB3F-4B51-4AB1-97EE-41991F2AF4BA}" type="datetime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776B-6709-4E9F-801E-579F6FE4B4CE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AF84-8C6C-4C9C-92EA-D7B44F4D5FF3}" type="datetime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0396-A8FD-47FF-9B2A-5289FE6E16A6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3" descr=""/>
          <p:cNvPicPr/>
          <p:nvPr/>
        </p:nvPicPr>
        <p:blipFill>
          <a:blip r:embed="rId1"/>
          <a:stretch/>
        </p:blipFill>
        <p:spPr>
          <a:xfrm>
            <a:off x="298440" y="-79200"/>
            <a:ext cx="8242200" cy="11523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0" y="762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What percent of energy is transferred to organisms at the next level?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73040" indent="-47304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What happens to the percentage of energy that is not passed onto the next trophic level?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73040" indent="-47304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73040" indent="-47304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How much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73040" indent="-473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energy is available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73040" indent="-473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t the secondary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73040" indent="-473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onsumer level?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73040" indent="-473040">
              <a:spcBef>
                <a:spcPts val="751"/>
              </a:spcBef>
              <a:buClr>
                <a:srgbClr val="ff388c"/>
              </a:buClr>
              <a:buSzPct val="80000"/>
              <a:buFont typeface="Calibri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2"/>
          <a:stretch/>
        </p:blipFill>
        <p:spPr>
          <a:xfrm>
            <a:off x="3733920" y="2803680"/>
            <a:ext cx="5410080" cy="405432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7"/>
          <p:cNvSpPr/>
          <p:nvPr/>
        </p:nvSpPr>
        <p:spPr>
          <a:xfrm>
            <a:off x="4191120" y="5562720"/>
            <a:ext cx="838080" cy="3045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4495680" y="4724280"/>
            <a:ext cx="838440" cy="304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4495680" y="3581280"/>
            <a:ext cx="838440" cy="304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4 main types of processes move carbon through its cycle: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1.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 Biological 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processes: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Photosynthesis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takes up carbon an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Respiration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releases carbo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2.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Geochemical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processes: erosion and volcanic activity release carbon dioxide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3.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Mixed 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biogeochemical processes: burial an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decomposition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of dead organisms and their conversion under pressure into fossil fuels stores carbon underground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4.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Human 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activities: mining, burning forests and fossil fuels, release carbon dioxide into the air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1676520" y="457200"/>
            <a:ext cx="595944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071200" cy="14814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All organisms need nitrogen to mak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amino acids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-which link together to form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proteins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.  Nitrogen occurs in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atmosphere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as nitrogen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gas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, as ammonia N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entury Gothic"/>
              </a:rPr>
              <a:t>3 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and as charged ions in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waste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of organisms and dead and decaying organic matter.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Most of the nitrogen is in the atmosphere (the air =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78% 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nitrogen gas), but most organisms cannot use this form of nitrogen directly.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Bacteria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fix nitrogen by converting nitrogen gas into ammonia so that other organisms can use it in a process called nitrogen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fixation.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3" descr=""/>
          <p:cNvPicPr/>
          <p:nvPr/>
        </p:nvPicPr>
        <p:blipFill>
          <a:blip r:embed="rId1"/>
          <a:stretch/>
        </p:blipFill>
        <p:spPr>
          <a:xfrm>
            <a:off x="450720" y="45072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301320" y="19810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Warm Up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Notes- Cycling of Matter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Relationships in an Ecosystem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Ecology Stations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nishing Pyramid Models &amp; Questions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ean Up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ool Dow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Nitrogen gets put back into the atmosphere when other soil bacteria convert nitrates into nitrogen gas in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denitrification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3929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3" descr=""/>
          <p:cNvPicPr/>
          <p:nvPr/>
        </p:nvPicPr>
        <p:blipFill>
          <a:blip r:embed="rId1"/>
          <a:stretch/>
        </p:blipFill>
        <p:spPr>
          <a:xfrm>
            <a:off x="298440" y="-79200"/>
            <a:ext cx="8242200" cy="11523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0" y="9907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What is nitrogen fixation?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What is nitrogen denitrification?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Why is nitrogen fixing bacteria necessary for human’s survival?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2"/>
          <a:stretch/>
        </p:blipFill>
        <p:spPr>
          <a:xfrm>
            <a:off x="2286000" y="3108240"/>
            <a:ext cx="472428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3" descr=""/>
          <p:cNvPicPr/>
          <p:nvPr/>
        </p:nvPicPr>
        <p:blipFill>
          <a:blip r:embed="rId1"/>
          <a:stretch/>
        </p:blipFill>
        <p:spPr>
          <a:xfrm>
            <a:off x="450720" y="45072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301320" y="19810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Warm Up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Microscope Parts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alculating Total Magnification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Microscope Lab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Illustrating the Water and Carbon Cycle with Explanations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ean Up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ool Dow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tudent of the Week is…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0" y="18828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Microscope Parts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alculating Magnificatio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otal Magnification = Eye piece magn.   x   Objective 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        lens magn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6" name="TextBox 3"/>
          <p:cNvSpPr/>
          <p:nvPr/>
        </p:nvSpPr>
        <p:spPr>
          <a:xfrm>
            <a:off x="228600" y="5715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”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"/>
          <p:cNvPicPr/>
          <p:nvPr/>
        </p:nvPicPr>
        <p:blipFill>
          <a:blip r:embed="rId1"/>
          <a:srcRect l="3310" t="0" r="5104" b="0"/>
          <a:stretch/>
        </p:blipFill>
        <p:spPr>
          <a:xfrm>
            <a:off x="4800600" y="0"/>
            <a:ext cx="4343400" cy="38926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0" y="2666880"/>
            <a:ext cx="4889520" cy="4191120"/>
          </a:xfrm>
          <a:prstGeom prst="rect">
            <a:avLst/>
          </a:prstGeom>
          <a:ln w="0">
            <a:noFill/>
          </a:ln>
        </p:spPr>
      </p:pic>
      <p:sp>
        <p:nvSpPr>
          <p:cNvPr id="369" name="TextBox 5"/>
          <p:cNvSpPr/>
          <p:nvPr/>
        </p:nvSpPr>
        <p:spPr>
          <a:xfrm>
            <a:off x="152280" y="152280"/>
            <a:ext cx="358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lustrate each cycle on your paper. At the bottom, include at least three sentences explaining each cyc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3"/>
          <a:stretch/>
        </p:blipFill>
        <p:spPr>
          <a:xfrm>
            <a:off x="4876920" y="3471840"/>
            <a:ext cx="426708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RAFFLE!!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071200" cy="14814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uided Notes 5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Unlike the one-way flow of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energy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matter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is recycled within and between ecosystems.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Elements, chemical compounds, and other forms of matter are passed from one organisms to another and from one part of the biosphere to another through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biogeochemical 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ycles.  Matter can cycled because matter is not used up, bu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transformed.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071200" cy="148140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Water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Cycle- Water moves between the ocean, atmosphere, and land. 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26" name="Diagram 1" descr=""/>
          <p:cNvPicPr/>
          <p:nvPr/>
        </p:nvPicPr>
        <p:blipFill>
          <a:blip r:embed="rId1"/>
          <a:srcRect l="-19827" t="-332" r="-19827" b="-691"/>
          <a:stretch/>
        </p:blipFill>
        <p:spPr>
          <a:xfrm>
            <a:off x="2057400" y="2819520"/>
            <a:ext cx="50292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42636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071200" cy="14814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4:14:58Z</dcterms:created>
  <dc:creator>Owner</dc:creator>
  <dc:description/>
  <dc:language>en-US</dc:language>
  <cp:lastModifiedBy>Angela Gorney</cp:lastModifiedBy>
  <dcterms:modified xsi:type="dcterms:W3CDTF">2011-01-31T12:42:46Z</dcterms:modified>
  <cp:revision>35</cp:revision>
  <dc:subject/>
  <dc:title>Cycles of Matter</dc:title>
</cp:coreProperties>
</file>